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E881C-1062-4CA6-9FE5-0113E58D84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D2A9F-55FF-4A0E-ACD6-969A8D10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94CFC-891F-4384-85B7-508A7656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697BD-3759-45D6-B4E0-1ECB5D6D0F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0DC1E-CFF1-4E0A-87B0-8A32541F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ECDB5-2F4F-4077-92B2-1BF9538A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D95C0-11F3-42E7-9EBF-B0EA545D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D19A1-F10A-4B97-B3CC-29BD191B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F4679-FD38-492F-9669-7474B8AC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F04C-00E3-47FE-9776-3271463B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B965B-6EAE-456C-BE6F-201E588C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C386A-6385-4A1C-9A08-DA0B58DA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28000" y="333360"/>
            <a:ext cx="431640" cy="287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3480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80F0-43F5-44A9-A9A5-BD30534E7C25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May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20560" y="20808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D R A F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7524360" y="142920"/>
            <a:ext cx="360360" cy="333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7451280" y="115920"/>
            <a:ext cx="360360" cy="333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8748360" y="431640"/>
            <a:ext cx="360360" cy="333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8675280" y="404640"/>
            <a:ext cx="360360" cy="333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Business Operations Support 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234936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628640"/>
            <a:ext cx="2160360" cy="540000"/>
          </a:xfrm>
          <a:prstGeom prst="rect">
            <a:avLst/>
          </a:prstGeom>
          <a:solidFill>
            <a:srgbClr val="d1c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usiness Operations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. Bauregger</a:t>
            </a: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	</a:t>
            </a: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Yumig J Liu (de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95640" y="2852640"/>
            <a:ext cx="1150920" cy="647640"/>
          </a:xfrm>
          <a:prstGeom prst="rect">
            <a:avLst/>
          </a:prstGeom>
          <a:solidFill>
            <a:srgbClr val="e9e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Budget and Portfolio Align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2852640"/>
            <a:ext cx="1152720" cy="647640"/>
          </a:xfrm>
          <a:prstGeom prst="rect">
            <a:avLst/>
          </a:prstGeom>
          <a:solidFill>
            <a:srgbClr val="e9e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Strategy 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artner Managen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2852640"/>
            <a:ext cx="1152360" cy="647640"/>
          </a:xfrm>
          <a:prstGeom prst="rect">
            <a:avLst/>
          </a:prstGeom>
          <a:solidFill>
            <a:srgbClr val="e9e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Planning T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Process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2852640"/>
            <a:ext cx="1152360" cy="647640"/>
          </a:xfrm>
          <a:prstGeom prst="rect">
            <a:avLst/>
          </a:prstGeom>
          <a:solidFill>
            <a:srgbClr val="e9e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Roadmap Plan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Contro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28000" y="2851200"/>
            <a:ext cx="1152360" cy="647640"/>
          </a:xfrm>
          <a:prstGeom prst="rect">
            <a:avLst/>
          </a:prstGeom>
          <a:solidFill>
            <a:srgbClr val="e9e1ff">
              <a:alpha val="9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800" spc="-1" strike="noStrike">
                <a:solidFill>
                  <a:srgbClr val="002b5d"/>
                </a:solidFill>
                <a:latin typeface="Arial"/>
                <a:ea typeface="新細明體"/>
              </a:rPr>
              <a:t>NDA 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800" spc="-1" strike="noStrike">
                <a:solidFill>
                  <a:srgbClr val="002b5d"/>
                </a:solidFill>
                <a:latin typeface="Arial"/>
                <a:ea typeface="新細明體"/>
              </a:rPr>
              <a:t>Contracts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234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234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34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96360" y="234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BE01E-25FE-4FB2-9865-D1188C2B60D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58:53Z</dcterms:created>
  <dc:creator>Brandl Nicole</dc:creator>
  <dc:description/>
  <dc:language>en-US</dc:language>
  <cp:lastModifiedBy> </cp:lastModifiedBy>
  <dcterms:modified xsi:type="dcterms:W3CDTF">2006-05-15T09:37:50Z</dcterms:modified>
  <cp:revision>62</cp:revision>
  <dc:subject/>
  <dc:title>PHE R&amp;D</dc:title>
</cp:coreProperties>
</file>